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24F9-3021-4793-A184-D6190A4AE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FE2E-1DAD-4B7B-96F1-2BE7D890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B0C3-7CC4-42B4-A81B-CA863AB75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13DF-9316-490C-A006-3DEBDFAD1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8DE0-B815-409F-AD42-BB450453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5B26-3DF3-4CA7-A53D-C4A04C13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9679-1107-4616-8904-7EF06C5E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C74E-4A39-4550-8774-5396EB18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BFBD-C674-4027-8F07-C7D9B4C4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2465-6C0A-4D6A-ABF3-804F026B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0022-FE94-435C-9DF3-7D2D10A0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3520-5A63-4B54-B2E3-796FAB63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6220-2B7C-42A4-B199-5D956B923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06440" y="2405160"/>
            <a:ext cx="833292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6035760" cy="4829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924360" y="836640"/>
            <a:ext cx="1942920" cy="162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48360" y="3429000"/>
            <a:ext cx="1943280" cy="105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3860640"/>
            <a:ext cx="1943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udios próxima eta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59280" y="242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87640" y="4292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1672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16720" y="3716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6:Toma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04000" y="5445000"/>
            <a:ext cx="2158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álisis de Err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00720" y="6093000"/>
            <a:ext cx="2158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álisis de Presu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148000" y="5661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88000" y="587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42920" y="6165720"/>
            <a:ext cx="2158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men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5877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5877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6264000" cy="5203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7:Validación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48360" y="2781360"/>
            <a:ext cx="1798920" cy="339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todas las decisiones fueron tomadas de manera correcta y cumplen los criterios de presupue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sale este mens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716360" y="5950080"/>
            <a:ext cx="2160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5351400" cy="4281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627280" y="1989000"/>
            <a:ext cx="3362400" cy="20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539640" y="3284640"/>
            <a:ext cx="2087640" cy="72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39640" y="1989000"/>
            <a:ext cx="2087640" cy="43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050920" y="2253960"/>
            <a:ext cx="57636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50920" y="3284640"/>
            <a:ext cx="57636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72360" y="2060640"/>
            <a:ext cx="237636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vez tomadas las decisiones deben transferir lo que hicieron a la carpeta que contendrá sus resul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787640" y="3716280"/>
            <a:ext cx="1584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372276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84360" y="2997360"/>
            <a:ext cx="7170480" cy="3095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11280" y="1197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s de grabar se les pide una confirmación, debido a que si graban no pueden volver a cargar sus decisiones. Es por eso que se les recomienda grabar solamente cuando estén completamente seguros de que sus decisiones son definitiv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47640" y="3500280"/>
            <a:ext cx="6134400" cy="2333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11280" y="2060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 pantalla les entrega un mensaje que su jugada a sido creada satisfactori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516720" y="1330200"/>
            <a:ext cx="2448000" cy="2371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9: Entrega de Jug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413000"/>
            <a:ext cx="597528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 misma carpeta de la que sacaron los archivos en el comienzo, se les creará un archivo con extens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baInd”y”.dz”x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nd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”  es la industria a la que pertene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” es la firma a la que pertene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ARCHIVO ES EL QUE DEBEN MANDAR AL CORREO: odiomarkstrat@g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084720" y="4941720"/>
            <a:ext cx="2478240" cy="600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732720" y="2421000"/>
            <a:ext cx="1942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baInd5.dz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96360" y="3860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5975280" cy="4780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8360" y="620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1: Inicio MARKST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659640" y="1844640"/>
            <a:ext cx="2016000" cy="315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 abrir el programa MARKSTRAT les aparece la siguiente pantal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lo deben presionar “O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00680" y="5661000"/>
            <a:ext cx="865080" cy="863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96360" y="5445000"/>
            <a:ext cx="0" cy="57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659640" y="6021360"/>
            <a:ext cx="936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1430280"/>
            <a:ext cx="6264360" cy="5011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771640" y="907920"/>
            <a:ext cx="4429440" cy="2610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68360" y="3213000"/>
            <a:ext cx="2303280" cy="2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24000" y="3213000"/>
            <a:ext cx="647640" cy="7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2205000"/>
            <a:ext cx="64764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95280" y="907560"/>
            <a:ext cx="2376360" cy="1258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2: Cargar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77080" y="3716280"/>
            <a:ext cx="20160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gresando acá pueden cargar los archivos que les envié por m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7885080" y="285228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6156360" y="2852640"/>
            <a:ext cx="1728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5113440" cy="3689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851280" y="981000"/>
            <a:ext cx="4886280" cy="3210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V="1">
            <a:off x="1763640" y="4127040"/>
            <a:ext cx="2160720" cy="574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708360" y="4149720"/>
            <a:ext cx="4824360" cy="574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763640" y="1052640"/>
            <a:ext cx="2160720" cy="2520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708360" y="3428640"/>
            <a:ext cx="216000" cy="144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24360" y="5013360"/>
            <a:ext cx="201636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á pueden definir de donde son llamados los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101080" y="1700280"/>
            <a:ext cx="0" cy="417672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7740360" y="587700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6143400" cy="4914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04000" y="2975040"/>
            <a:ext cx="201600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á pueden definir el “path” para rescatar los d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95640" y="3357720"/>
            <a:ext cx="720720" cy="100800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716000" y="3800520"/>
            <a:ext cx="20890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4000" y="1330200"/>
            <a:ext cx="6480000" cy="5185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77080" y="2924280"/>
            <a:ext cx="2087640" cy="285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pecifican la carpeta en la que guardaron los archivos que les man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Deben deszipearlo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347640" y="3933720"/>
            <a:ext cx="35290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5854680" cy="4682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732720" y="620640"/>
            <a:ext cx="1800000" cy="23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vez cargados los archivos deben salir en esta panta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 seleccion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916000" y="1341360"/>
            <a:ext cx="3816360" cy="273528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77080" y="4149720"/>
            <a:ext cx="180036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n la carga presionando el botón de transferencia de archivos desde el instru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3058920" y="4940280"/>
            <a:ext cx="3817800" cy="93672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4:Transferencia de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7726320" cy="6180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24000" y="765000"/>
            <a:ext cx="2467080" cy="255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50920" y="404640"/>
            <a:ext cx="187308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79640" y="549360"/>
            <a:ext cx="259236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2133720"/>
            <a:ext cx="1800000" cy="1150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907920"/>
            <a:ext cx="1800360" cy="147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cá toman sus deci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987640" y="1341360"/>
            <a:ext cx="2736720" cy="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6035760" cy="48290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42920" y="1197000"/>
            <a:ext cx="3673440" cy="1224000"/>
          </a:xfrm>
          <a:prstGeom prst="ellipse">
            <a:avLst/>
          </a:prstGeom>
          <a:noFill/>
          <a:ln w="1908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59640" y="1268280"/>
            <a:ext cx="2087640" cy="368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os para basar las deci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es del Nego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udios de Mercado       (Los que mandaron a hac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5:Análisis de Dato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284720" y="1341360"/>
            <a:ext cx="2303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03:19:37Z</dcterms:created>
  <dc:creator>Blas Duarte Lange</dc:creator>
  <dc:description/>
  <dc:language>en-US</dc:language>
  <cp:lastModifiedBy>0000</cp:lastModifiedBy>
  <dcterms:modified xsi:type="dcterms:W3CDTF">2006-09-14T22:04:10Z</dcterms:modified>
  <cp:revision>14</cp:revision>
  <dc:subject/>
  <dc:title>Diapositiva 1</dc:title>
</cp:coreProperties>
</file>